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4EC-C29C-4310-83D8-5EB9B82E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DD0-FEE9-40AC-8B20-BFF03F9A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BCF-9664-4FE0-98DE-18FAE890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2A8-5F9E-445D-979C-F5231122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FF1C-4278-4C16-8FAB-96E1CE81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34D9-F499-4FB4-B3EC-B86667D1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D09E-C266-48C1-BED2-404B8712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7BF6-D818-44A5-923C-D8FBF39B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D73D-C38D-4F94-A7FD-61B16E63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BD8B-835C-4A2E-AE1A-57E878A4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0479-3B6B-478A-A28C-FB24F10E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6C4-38D7-485A-981C-DD3AD649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9C3A-6AC3-45A2-8757-AAB8143D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48B2-F78F-432D-9F39-624780BA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03EB-B79A-45A9-9D24-EB4A4E02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C3A3-B35D-4C63-B958-D7998442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F262-BA75-4E1F-AE2F-14CC6678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D34-7E6D-4BA7-8669-40060F23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B03-5CA5-4505-AE89-09BA22DB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131-6A02-4E9E-BA90-71573E53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841-E87F-48F2-95C2-A0C673FE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B1E-C468-4909-92BD-F7685BA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C3C-33D3-4DCE-8CE6-C326A34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25F-900A-4FFD-BFA1-20DC819F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BBEF-67FE-480F-A1C0-99984C004C9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D549-A6AC-4E72-B954-EE2186F606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Exercises 1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57680" y="12859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1714680"/>
            <a:ext cx="864396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οξαν παρα ἀνθρωπων οὐ λαμβανω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ιστευεις εἰς τον υἱον του ἀνθρωπου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κυριος λεγει αὐτοις∙ Που αὐτους ἀγετε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Πετρος διδασκει αὐτους περι της βασιλειας παρα τοις πλοιοι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ναβλεπομεν εἰς τον οὐρανον ἐνωπιον του ἱερ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Ἰησους ἐκβαλλει τα δαιμονια ἐκ του ἀνθρωπου λογ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214200" y="1343160"/>
            <a:ext cx="807264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εριπατω ὑπο ἁμαρτιαν και κατα του νομου του θε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Πετρος συναγει την ἐκκλησιαν εἰς τον οἰκον της ἀδελφης του Ἰακωβ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re departing towards the s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(pl.) are exhorting the brothers in the L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 you (s.) keep the Sabbath because of the law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eople in the boat are worshipping the Lord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Exercises 2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260280" y="1785960"/>
            <a:ext cx="888372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ν τῃ ἡμερᾳ του κυριου βλεπομεν τον θεον προσωπον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ρος προσωπ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υριε, οὐ πιστευω εἰς αὐτ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ροσκυνουμεν τῳ θεῳ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ια την ὡραν ὁ κυριος ἀπολυει τον ὀχ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εριπατειτε ἐν τῃ ἀγαπῃ του θεου κατα τον λογον αὐτου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αγγελος λυει τον Πετρον και παραλαμβανει αὐτον προς τους ἀδελφου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000240" y="135720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Exercises 3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1071720"/>
            <a:ext cx="9001080" cy="55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ετα την ἀρχην του σαββατου ὁ ῥαββι και οἱ υἱοι αὐτου οὐ ποιουσιν ἐργ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ου ὁ κυριος διδασκει περι του εὐαγγελιου της βασιλειας του θεου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y gathers the sisters and they seek the Lord with the br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child dwells in the house of the Lord, and does not depart from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voice of God is [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ἐστιν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ove the heavens and in their he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eople do works on behalf of the children because of the love of Chri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Exercises 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2436840"/>
            <a:ext cx="81435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.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 ἀρχῇ ἦ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ὁ λόγος, καὶ ὁ λόγος ἦν πρὸς τὸν θεόν, και θεὸς ἦν ὁ λόγος. οὗτος 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is on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ἦν ἐν ἀρχῇ πρὸς τὸν θεόν....ἐν αὐτῷ ζωὴ ἦν, καὶ ἡ ζωὴ ἦν τὸ φῶ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ῶν ἀνθρώπ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Exercises 5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2:46:41Z</dcterms:created>
  <dc:creator>Sarah</dc:creator>
  <dc:description/>
  <dc:language>en-US</dc:language>
  <cp:lastModifiedBy>Sarah</cp:lastModifiedBy>
  <dcterms:modified xsi:type="dcterms:W3CDTF">2009-07-09T17:45:25Z</dcterms:modified>
  <cp:revision>23</cp:revision>
  <dc:subject/>
  <dc:title>Slide 1</dc:title>
</cp:coreProperties>
</file>